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764-95DF-4B86-BB48-39269368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4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5EA-117E-4F18-A450-BDCFA29C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79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44F-B4EE-44E3-A561-DCE0F193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250236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79280"/>
            <a:ext cx="250236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79280"/>
            <a:ext cx="250236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ED0-6DBF-4E25-8E2A-C60B0A96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792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A1B-936D-406E-AEE5-08293B1C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14D-2904-406A-BA46-C7196AD8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3792600" cy="4118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79280"/>
            <a:ext cx="3792600" cy="4118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A00-858D-44AB-A7BF-7C2A1FC4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C21-554D-48E2-A913-493499B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BEA-0DF4-41DA-A482-B55E068B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79280"/>
            <a:ext cx="3792600" cy="4118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28F-4DE9-406E-8991-7B79791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3792600" cy="4118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79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4D0-A91F-4C8C-AC97-BCFA87C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79280"/>
            <a:ext cx="37926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400" cy="196416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8CA-9783-44ED-8AEA-91E9F22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792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rmAutofit fontScale="79000"/>
          </a:bodyPr>
          <a:p>
            <a:pPr marL="340920" indent="-3409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68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6600" indent="-2293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3080" indent="-22824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3080" indent="-22824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3080" indent="-22824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Autofit/>
          </a:bodyPr>
          <a:lstStyle>
            <a:lvl1pPr indent="0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Autofit/>
          </a:bodyPr>
          <a:lstStyle>
            <a:lvl1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600" bIns="57600" anchor="t">
            <a:noAutofit/>
          </a:bodyPr>
          <a:lstStyle>
            <a:lvl1pPr indent="0" algn="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fld id="{650A02D8-E222-4932-9050-2CEC8C80662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303200"/>
            <a:ext cx="7772400" cy="425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765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Forte"/>
              </a:rPr>
              <a:t>Solivo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515772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Forte"/>
              </a:rPr>
              <a:t>Anche Giovanni Paolo II lo ripeteva spesso a voi giovani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355896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220500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INSERIRE QUI IL PPT scaricandolo da Qumr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Non abbiate paura” nella sezione generica “presentazioni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Forte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303200"/>
            <a:ext cx="7772400" cy="425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765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Forte"/>
              </a:rPr>
              <a:t>Solivo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0600" y="1681200"/>
            <a:ext cx="4762800" cy="349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76500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Forte"/>
              </a:rPr>
              <a:t>L’umanità ha pau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530064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Terremo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057800" cy="5294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5280" y="573408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Disoccup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59280" y="573408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Malatt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138320"/>
            <a:ext cx="5022720" cy="399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80000" y="5300640"/>
            <a:ext cx="51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Terror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197760" cy="416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360" y="551664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Cambiamenti climat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840" y="-1900080"/>
            <a:ext cx="9128160" cy="1216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76500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mic Sans MS"/>
              </a:rPr>
              <a:t>L’umanità ha paura…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206064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i abbiamo pa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09600"/>
            <a:ext cx="896616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Forte"/>
              </a:rPr>
              <a:t>Ma Gesù ci di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rte"/>
              </a:rPr>
              <a:t>                   “</a:t>
            </a:r>
            <a:r>
              <a:rPr b="0" lang="en-US" sz="5000" spc="-1" strike="noStrike">
                <a:solidFill>
                  <a:srgbClr val="000000"/>
                </a:solidFill>
                <a:latin typeface="Forte"/>
              </a:rPr>
              <a:t>Non   abbiate paura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349360"/>
            <a:ext cx="756144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Queste frase compare nella Bibbia più di </a:t>
            </a:r>
            <a:r>
              <a:rPr b="0" lang="en-US" sz="6600" spc="-1" strike="noStrike">
                <a:solidFill>
                  <a:srgbClr val="ffffff"/>
                </a:solidFill>
                <a:latin typeface="Forte"/>
              </a:rPr>
              <a:t>80</a:t>
            </a: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 volt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2560" y="5229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.significa che è important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5493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orte"/>
              </a:rPr>
              <a:t>“</a:t>
            </a:r>
            <a:r>
              <a:rPr b="0" lang="en-US" sz="6000" spc="-1" strike="noStrike">
                <a:solidFill>
                  <a:srgbClr val="ffffff"/>
                </a:solidFill>
                <a:latin typeface="Forte"/>
              </a:rPr>
              <a:t>Non abbiate paura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orte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20:23:37Z</dcterms:created>
  <dc:creator>Lamorfa</dc:creator>
  <dc:description/>
  <dc:language>en-US</dc:language>
  <cp:lastModifiedBy>Steo@Stefi</cp:lastModifiedBy>
  <dcterms:modified xsi:type="dcterms:W3CDTF">2008-10-25T06:43:36Z</dcterms:modified>
  <cp:revision>15</cp:revision>
  <dc:subject/>
  <dc:title>Presentazione di PowerPoint</dc:title>
</cp:coreProperties>
</file>